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A11E-0FFC-4B45-9F1F-8A28BA4E0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B1E2-CB2D-4CC8-B832-DE2DFA94C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526F-1AAC-4447-A947-94E1F2AE3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0C51-2E98-4105-B2AB-F90B99ECA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7F62-EB6C-4408-93BB-C3D6819E3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115C-7C45-461F-A101-28EB00308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454C-7659-4098-949D-B2DCCF88A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8BFB-59DE-4C20-B286-60224DD59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0E56-AA9C-40D2-8D84-9EBD0BFC4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7AA1-1BC5-4B6D-AE43-E9048F3D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EE65-F7E9-4618-9BC8-DCC03D87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974D-1C76-46C1-B1D9-19744906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6564A-F797-42AC-BB74-D10978218B7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as voc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Las vocales en español sí sé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Las vocales en español sí sé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a, e, i, o, u, a, e, i, o, u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Las vocales en español sí sé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La 'm' con la 'a' dice 'ma'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La 'm' con la 'e' dice 'me'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La 'm' con la 'i' dice 'mi’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La 'm' con la 'o' dice 'mo'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La 'm' con la 'u' se dice 'mu'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Todos juntos dicen ma, me, mi, mo, mu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"If You're Happy and you Know it Clap your Hands"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Las vocales en español sí sé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Las vocales en español sí sé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a, e, i, o, u, a, e, i, o, u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Las vocales en español sí sé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To do syllables: (whatever consonant you want to use)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La 'm' con la 'a' dice 'ma'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La 'm' con la 'e' dice 'me'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La 'm' con la 'i' dice 'mi' (it picks up at the beginning of the tune again here and continues to the end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La 'm' con la 'o' dice 'mo'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La 'm' con la 'u' se dice 'mu'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Todos juntos dicen ma, me, mi, mo, mu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5" descr="j0213485"/>
          <p:cNvPicPr/>
          <p:nvPr/>
        </p:nvPicPr>
        <p:blipFill>
          <a:blip r:embed="rId1"/>
          <a:stretch/>
        </p:blipFill>
        <p:spPr>
          <a:xfrm>
            <a:off x="428760" y="357120"/>
            <a:ext cx="242640" cy="4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20:54:07Z</dcterms:created>
  <dc:creator>Teacher</dc:creator>
  <dc:description/>
  <dc:language>en-US</dc:language>
  <cp:lastModifiedBy>Teacher</cp:lastModifiedBy>
  <dcterms:modified xsi:type="dcterms:W3CDTF">2010-02-19T20:58:07Z</dcterms:modified>
  <cp:revision>1</cp:revision>
  <dc:subject/>
  <dc:title>Las vocales</dc:title>
</cp:coreProperties>
</file>